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CE5E-340A-4825-AF08-B47163AC18AF}" type="slidenum"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0C4D-679E-4CDB-A9E6-8003D23A83F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A65-E47E-4EDC-951C-3E68B915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FE6-4289-4C29-9A3F-FEBE0C3D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88B-85C0-4A91-8041-F785ED98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5051-FF09-49FF-B885-BB58672F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9FE7-8909-4B80-BFB3-D66BCAB2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8EC0-E6A7-40FF-B2CF-D4A7CEA4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5310-06B6-42B0-9DA3-E343C45E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55F3-E09F-4FFA-B0D1-12C880C1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E90A-9DEA-4825-8612-3AE294E4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81AE-8CCA-4752-BEDC-1639CF4B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A279-B70B-464C-A5A4-0625C474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230-EB4F-4D01-9692-B29ED968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9F47-7859-4E1A-B3A3-78B94B49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B491-B662-40B2-81B3-AD70ECA4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39DC-E8AF-42CD-9C75-52A0BCCF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2246-FCC8-4B02-B919-FD84B649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F874-48E4-4C8A-A931-0A49CEE5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E63-B519-4704-B837-E11315FA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2ECB-03E7-41E0-8856-AECEFDE2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DE1-C7D2-48DE-BDDF-48B99963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C00-6539-4011-9D21-78F96B85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B9D-AEFA-4749-ABBB-500E7B64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775A-6500-433D-9B07-BB3DB735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226-3F12-417E-8357-C22722A3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F945-9F32-4323-ADCB-70F08D65EEC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3"/>
          <a:stretch/>
        </p:blipFill>
        <p:spPr>
          <a:xfrm>
            <a:off x="6297480" y="4863960"/>
            <a:ext cx="1212840" cy="908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ndalus"/>
                <a:ea typeface="Andalu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68A7-F471-4928-A537-EBBC7F7F23C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554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ndalus"/>
                <a:ea typeface="Andalus"/>
              </a:rPr>
              <a:t>VABI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Rectangle 5"/>
          <p:cNvGrpSpPr/>
          <p:nvPr/>
        </p:nvGrpSpPr>
        <p:grpSpPr>
          <a:xfrm>
            <a:off x="1189080" y="1268280"/>
            <a:ext cx="6259320" cy="4535640"/>
            <a:chOff x="1189080" y="1268280"/>
            <a:chExt cx="6259320" cy="4535640"/>
          </a:xfrm>
        </p:grpSpPr>
        <p:pic>
          <p:nvPicPr>
            <p:cNvPr id="94" name="Rectangle 5" descr=""/>
            <p:cNvPicPr/>
            <p:nvPr/>
          </p:nvPicPr>
          <p:blipFill>
            <a:blip r:embed="rId1"/>
            <a:stretch/>
          </p:blipFill>
          <p:spPr>
            <a:xfrm>
              <a:off x="1190520" y="1268280"/>
              <a:ext cx="6254280" cy="45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189080" y="1268280"/>
              <a:ext cx="6259320" cy="453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Zabava, smeh in razveseljevanje bližnjih večajo življenjsko sreč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Življenje je lovljenje ravnotežja med odgovornostmi, delom, počitkom in zabav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Vse ima svoje mesto v velikem zemljevidu življenja. Zato se je treba nagraditi s časom za zabav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a te napolni z energijo, ki jo potrebuješ, da se sreča lahko obnavlj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Zato te prisrčno vabim, da se poveseliš z mano - ob mojem prihajajočem 40. rojstnem dnev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l-SI" sz="1600" spc="-1" strike="noStrike" u="sng">
                  <a:solidFill>
                    <a:srgbClr val="000000"/>
                  </a:solidFill>
                  <a:uFillTx/>
                  <a:latin typeface="Andalus"/>
                  <a:ea typeface="Andalus"/>
                </a:rPr>
                <a:t>dne 23. oktobra 2014 ob 14.10 minu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e dobimo na </a:t>
              </a:r>
              <a:r>
                <a:rPr b="1" i="1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arkirišču za osnovno šolo  </a:t>
              </a: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 skupaj odidemo v neznan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Melita Žlajpa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cp:lastPrinted>2014-10-02T08:33:03Z</cp:lastPrinted>
  <dcterms:modified xsi:type="dcterms:W3CDTF">2014-10-13T09:18:08Z</dcterms:modified>
  <cp:revision>75</cp:revision>
  <dc:subject/>
  <dc:title>TITLE</dc:title>
</cp:coreProperties>
</file>